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25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6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6.jpeg" ContentType="image/jpeg"/>
  <Override PartName="/ppt/media/image13.jpeg" ContentType="image/jpeg"/>
  <Override PartName="/ppt/media/image1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FB3-5112-4FA2-9769-7522A555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B82-4583-45E1-9F6D-C2AC5E70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59E-6448-46D3-932D-110ACF06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E498-998C-43ED-AD3E-442BEAD9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0F45-F711-431D-BA3E-B3610474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7939-F4E8-4DC4-9ACD-F4E23AC9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B722-8489-48D6-9F4B-789913A4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6F36-01D1-4CB3-858B-EF603275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6B95-3DD5-42B2-8838-420E021F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FEB6-D9B7-4FA3-9F5B-80F62B52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221C-0CA7-44C6-97FF-DFD984F0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C3A-555A-4398-8CAE-E9A3C899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D114-D00C-4B71-9EDC-19F05D25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A098-FD4E-4A48-83E1-A3664F56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7C6C-95E9-4358-B9F9-F8970CDB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A5CF-5E1B-4BAF-AF52-8E958948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19CB-CEBE-423F-BA1F-89901F2D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AE2-B506-4915-A4AE-C7485984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32D-912E-4F9F-BCA1-6EE4F6AC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87E-4D81-4298-8C12-21D68EBD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D3D-0BBC-4385-B9DD-354C3A07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7A1-A072-4D32-91D9-3CD6BAD2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003-BD8C-48AD-9FE3-49341A5F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607-636A-4B7F-A70E-B78B901A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0CD5-2267-4AAE-9F49-78DE49430F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1395-64DD-467D-A094-75A71335AC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lesruk.ru/imagesbin/3904_123_jpg.jpg&amp;pageurl=http://www.1000dosok.ru/doski.php%3Fkr%3D20%26r%3D20-03%26n%3D870844&amp;id=85475648&amp;iid=7&amp;imgwidth=87&amp;imgheight=90&amp;imgsize=217242&amp;images_links=b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620640"/>
            <a:ext cx="77151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Учебно-познавательный проект на тему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: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«Физико-химические процессы, происходящие </a:t>
            </a:r>
            <a:br>
              <a:rPr sz="4200"/>
            </a:b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ри изготовлении теста».</a:t>
            </a:r>
            <a:br>
              <a:rPr sz="4200"/>
            </a:br>
            <a:br>
              <a:rPr sz="4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аботу выполнил студент группы №29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о специальности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«Технология продукции ОП»</a:t>
            </a:r>
            <a:br>
              <a:rPr sz="3200"/>
            </a:b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Коваленко Эдуар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circl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Белки пшеничной  мук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26496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стые  б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протеи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оят только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минокисл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4360" y="1557000"/>
            <a:ext cx="460836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ожные белки (протеид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аминокисл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тков могут содерж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оны метал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еталло-протеиды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гмен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ромопротеиды)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пи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липопротеиды)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уклеиновые кисл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уклеопротеиды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сфорную кисл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осфопротеиды)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глево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ликопротеид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3933720"/>
            <a:ext cx="3384720" cy="25304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64388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Для белков характерны многие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физико-химические свойства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, из которых более всего важны: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- растворимость;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- способность к набуханию;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- способность к денатурации;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- способность к гидролиз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72360" y="4365720"/>
            <a:ext cx="2458800" cy="220176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277560"/>
            <a:ext cx="785988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тесте ферменты дрожжей вызывают 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спиртовое брожение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  Брожение идет по следующей схеме: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       С</a:t>
            </a:r>
            <a:r>
              <a:rPr b="1" lang="en-US" sz="2800" spc="-1" strike="noStrike" baseline="-25000">
                <a:solidFill>
                  <a:srgbClr val="330033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Н</a:t>
            </a:r>
            <a:r>
              <a:rPr b="1" lang="en-US" sz="2800" spc="-1" strike="noStrike" baseline="-25000">
                <a:solidFill>
                  <a:srgbClr val="3300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О</a:t>
            </a:r>
            <a:r>
              <a:rPr b="1" lang="en-US" sz="2800" spc="-1" strike="noStrike" baseline="-25000">
                <a:solidFill>
                  <a:srgbClr val="330033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→  2СО</a:t>
            </a:r>
            <a:r>
              <a:rPr b="1" lang="en-US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+ 2С</a:t>
            </a:r>
            <a:r>
              <a:rPr b="1" lang="en-US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Н</a:t>
            </a:r>
            <a:r>
              <a:rPr b="1" lang="en-US" sz="2800" spc="-1" strike="noStrike" baseline="-25000">
                <a:solidFill>
                  <a:srgbClr val="330033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ОН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Диоксид углерода СО</a:t>
            </a:r>
            <a:r>
              <a:rPr b="0" lang="en-US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образующийся в результате спиртового образования разрыхляет тесто, придает ему пористую структуру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76720" y="4005360"/>
            <a:ext cx="3240000" cy="244620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773280"/>
            <a:ext cx="850572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Дрожжи хлебопекарные прессованные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представляют собой скопления дрожжевых клеток определенной расы, выращенных в особых условиях на питательных средах 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при интенсивном продувании воздухом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3280" y="4365720"/>
            <a:ext cx="3600360" cy="231768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             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Сахар  (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С</a:t>
            </a:r>
            <a:r>
              <a:rPr b="1" lang="en-US" sz="3600" spc="-1" strike="noStrike" baseline="-25000">
                <a:solidFill>
                  <a:srgbClr val="3300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Н</a:t>
            </a:r>
            <a:r>
              <a:rPr b="1" lang="en-US" sz="3600" spc="-1" strike="noStrike" baseline="-25000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О</a:t>
            </a:r>
            <a:r>
              <a:rPr b="1" lang="en-US" sz="3600" spc="-1" strike="noStrike" baseline="-25000">
                <a:solidFill>
                  <a:srgbClr val="330033"/>
                </a:solidFill>
                <a:latin typeface="Times New Roman"/>
              </a:rPr>
              <a:t>11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)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1)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придает изделиям сладкий вкус;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2) увеличивает их калорийность;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3) в небольшом количестве ускоряет развитие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  дрожжей;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4) влияет на механические свойства теста 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—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ограничивает набухание клейковины, в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  результате чего снижается водопоглотительная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  способность муки и уменьшается упругость теста;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5) при повышенном количестве сахара, он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  разжижает тесто, и изделия получаются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  деформированными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circl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При производстве хлеба и  хлебобулочных изделий используют 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молочные продукты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2496960" cy="244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1582560" cy="201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995640" y="4292640"/>
            <a:ext cx="2519640" cy="216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732720" y="4292640"/>
            <a:ext cx="2016000" cy="21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900000" y="4292640"/>
          <a:ext cx="288000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4292640"/>
                    <a:ext cx="288000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  <p:sndAc>
      <p:stSnd>
        <p:snd r:embed="rId7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2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Яйца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- повышают </a:t>
            </a: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пищевую ценность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изделий из теста,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обогащая его белками, биологически активными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жирами и витаминами;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- выполняют </a:t>
            </a: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технологические функции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: взбитые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белки придают тесту пористость, желтки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являются хорошим эмульгатором, что позволяет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получать стойкую эмульсию воды и жира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2952720" cy="226728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56944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Меланж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-</a:t>
            </a:r>
            <a:br>
              <a:rPr sz="3800"/>
            </a:br>
            <a:r>
              <a:rPr b="0" i="1" lang="en-US" sz="3200" spc="-1" strike="noStrike">
                <a:solidFill>
                  <a:srgbClr val="330033"/>
                </a:solidFill>
                <a:latin typeface="Times New Roman"/>
              </a:rPr>
              <a:t>замороженная смесь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0033"/>
                </a:solidFill>
                <a:latin typeface="Times New Roman"/>
              </a:rPr>
              <a:t>яичных белков и желтков.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Яйца заменяют меланжем в соотношении 1:1.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азмороженный меланж хранить нельзя, поэтому  размораживают только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необходимое его количество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016360" cy="229536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532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Жиры </a:t>
            </a:r>
            <a:br>
              <a:rPr sz="3200"/>
            </a:br>
            <a:r>
              <a:rPr b="0" i="1" lang="en-US" sz="2400" spc="-1" strike="noStrike">
                <a:solidFill>
                  <a:srgbClr val="330033"/>
                </a:solidFill>
                <a:latin typeface="Times New Roman"/>
              </a:rPr>
              <a:t>придают изделиям сдобный вкус, рассыпчатость, слоистость.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Жир, вводимый в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тесто в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пластичном состоянии, равномерно распределяется на поверхности клейковины, образуя пленки. </a:t>
            </a:r>
            <a:br>
              <a:rPr sz="24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Белки меньше набухают, клейковина получается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менее упругая и легко рвется. </a:t>
            </a:r>
            <a:br>
              <a:rPr sz="24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В связи с этим, жир  вводят в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конце замеса.  </a:t>
            </a:r>
            <a:br>
              <a:rPr sz="24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При  выпечке жир лучше удерживает воздух и изделия больше "поднимаются"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92720" y="4397400"/>
            <a:ext cx="3382920" cy="206676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7993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Органические кислоты</a:t>
            </a:r>
            <a:r>
              <a:rPr b="1" lang="en-US" sz="30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способствуют набуханию клейковины.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Поэтому для увеличения ее эластичности при изготовлении некоторых видов теста добавляют: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лимонную кислоту</a:t>
            </a: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  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НООС─СН</a:t>
            </a:r>
            <a:r>
              <a:rPr b="0" lang="en-US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─С(ОН)(СООН)─СН</a:t>
            </a:r>
            <a:r>
              <a:rPr b="0" lang="en-US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─СООН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уксусную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кислоту СН</a:t>
            </a:r>
            <a:r>
              <a:rPr b="0" lang="en-US" sz="2800" spc="-1" strike="noStrike" baseline="-25000">
                <a:solidFill>
                  <a:srgbClr val="33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СООН 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circl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                 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Вопросы: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1) Сырье хлебопекарного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производства.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2) Физико-химические процессы,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происходящие при 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изготовлении тест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527880" y="3933720"/>
            <a:ext cx="2254320" cy="263052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45680"/>
            <a:ext cx="771552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Ароматизаторы</a:t>
            </a: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используют ваниль, ванилин, пряности (корицу, гвоздику, мускатный орех)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2665440" cy="2041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116000" y="5013360"/>
            <a:ext cx="1819440" cy="129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236000" y="3068640"/>
            <a:ext cx="1439640" cy="136836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4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277920"/>
            <a:ext cx="4176720" cy="57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и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замесе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теста одновременно протекают:</a:t>
            </a:r>
            <a:br>
              <a:rPr sz="32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- </a:t>
            </a:r>
            <a:r>
              <a:rPr b="0" i="1" lang="ru-RU" sz="3600" spc="-1" strike="noStrike">
                <a:solidFill>
                  <a:srgbClr val="330033"/>
                </a:solidFill>
                <a:latin typeface="Times New Roman"/>
              </a:rPr>
              <a:t>физико-</a:t>
            </a:r>
            <a:br>
              <a:rPr sz="3600"/>
            </a:br>
            <a:r>
              <a:rPr b="0" i="1" lang="ru-RU" sz="3600" spc="-1" strike="noStrike">
                <a:solidFill>
                  <a:srgbClr val="330033"/>
                </a:solidFill>
                <a:latin typeface="Times New Roman"/>
              </a:rPr>
              <a:t>  механические</a:t>
            </a:r>
            <a:br>
              <a:rPr sz="3600"/>
            </a:br>
            <a:r>
              <a:rPr b="0" i="1" lang="ru-RU" sz="36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процессы;</a:t>
            </a: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- </a:t>
            </a:r>
            <a:r>
              <a:rPr b="0" i="1" lang="ru-RU" sz="3600" spc="-1" strike="noStrike">
                <a:solidFill>
                  <a:srgbClr val="330033"/>
                </a:solidFill>
                <a:latin typeface="Times New Roman"/>
              </a:rPr>
              <a:t>коллоидные</a:t>
            </a:r>
            <a:br>
              <a:rPr sz="3600"/>
            </a:br>
            <a:r>
              <a:rPr b="0" i="1" lang="ru-RU" sz="36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процессы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365640" cy="431316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28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Замес теста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 В начале тесто - липкое и влажное,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 при продолжении замеса - легко отстает от рук.   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  В процессе замешивания тесто приобретает новые </a:t>
            </a:r>
            <a:r>
              <a:rPr b="0" i="1" lang="en-US" sz="3000" spc="-1" strike="noStrike">
                <a:solidFill>
                  <a:srgbClr val="330033"/>
                </a:solidFill>
                <a:latin typeface="Times New Roman"/>
              </a:rPr>
              <a:t>физические свойства</a:t>
            </a: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: 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  1) </a:t>
            </a:r>
            <a:r>
              <a:rPr b="0" i="1" lang="en-US" sz="3000" spc="-1" strike="noStrike">
                <a:solidFill>
                  <a:srgbClr val="330033"/>
                </a:solidFill>
                <a:latin typeface="Times New Roman"/>
              </a:rPr>
              <a:t>упругость;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  2) </a:t>
            </a:r>
            <a:r>
              <a:rPr b="0" i="1" lang="en-US" sz="3000" spc="-1" strike="noStrike">
                <a:solidFill>
                  <a:srgbClr val="330033"/>
                </a:solidFill>
                <a:latin typeface="Times New Roman"/>
              </a:rPr>
              <a:t>растяжимость;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  3) </a:t>
            </a:r>
            <a:r>
              <a:rPr b="0" i="1" lang="en-US" sz="3000" spc="-1" strike="noStrike">
                <a:solidFill>
                  <a:srgbClr val="330033"/>
                </a:solidFill>
                <a:latin typeface="Times New Roman"/>
              </a:rPr>
              <a:t>эластичность.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048120" cy="241452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406440"/>
            <a:ext cx="842472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Приготовление дрожжевого теста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основано на способности дрожжей сбраживать сахара муки в спирт с образованием углекислого газа.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Тесто не только разрыхляется углекислым газом, но и приобретает новые вкусовые качества.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Этот вид теста иногда называют </a:t>
            </a: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кислым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435640" y="4330800"/>
            <a:ext cx="3384360" cy="21938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8000" y="701280"/>
            <a:ext cx="6778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В процессе брожения и выпечки в нем происходят сложные химические изменения, которые меняют его вкус  и увеличивают объем.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42920" y="4149360"/>
            <a:ext cx="763272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→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→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→  С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хмал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декстрины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мальтоза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644040"/>
            <a:ext cx="8208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Сахароза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од действием дрожжей также распадается на более простые сахара –</a:t>
            </a:r>
            <a:r>
              <a:rPr b="0" i="1" lang="ru-RU" sz="3200" spc="-1" strike="noStrike">
                <a:solidFill>
                  <a:srgbClr val="330033"/>
                </a:solidFill>
                <a:latin typeface="Times New Roman"/>
              </a:rPr>
              <a:t>глюкозу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и </a:t>
            </a:r>
            <a:r>
              <a:rPr b="0" i="1" lang="ru-RU" sz="3200" spc="-1" strike="noStrike">
                <a:solidFill>
                  <a:srgbClr val="330033"/>
                </a:solidFill>
                <a:latin typeface="Times New Roman"/>
              </a:rPr>
              <a:t>фруктозу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.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Сахара превращаются в </a:t>
            </a:r>
            <a:r>
              <a:rPr b="0" i="1" lang="ru-RU" sz="3200" spc="-1" strike="noStrike">
                <a:solidFill>
                  <a:srgbClr val="330033"/>
                </a:solidFill>
                <a:latin typeface="Times New Roman"/>
              </a:rPr>
              <a:t>спирт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и </a:t>
            </a:r>
            <a:r>
              <a:rPr b="0" i="1" lang="ru-RU" sz="3200" spc="-1" strike="noStrike">
                <a:solidFill>
                  <a:srgbClr val="330033"/>
                </a:solidFill>
                <a:latin typeface="Times New Roman"/>
              </a:rPr>
              <a:t>углекислоту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.</a:t>
            </a: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364464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хароза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глюкоза                фрукт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С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юкоза             углекислота              этан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Поваренная соль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2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до 0,1 % массы муки - способствует лучшему процессу брожения;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-1,5–2% (по рецептуре) - тормозит брожение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3889440" cy="2879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233880" cy="251928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35344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Внешние признаки конца брожения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теста: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800"/>
            </a:br>
            <a:br>
              <a:rPr sz="26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выбродившее тесто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увеличивается в объеме в 2,5 раза; </a:t>
            </a:r>
            <a:br>
              <a:rPr sz="24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ри надавливании пальцем медленно выравнивается; </a:t>
            </a:r>
            <a:br>
              <a:rPr sz="24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оверхность выпуклая, тесто имеет приятный спиртовой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запах; </a:t>
            </a:r>
            <a:br>
              <a:rPr sz="24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недобродившее тесто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при надавливании пальцем быстро </a:t>
            </a:r>
            <a:br>
              <a:rPr sz="24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выравнивается, корочка изделий, выпеченных из такого </a:t>
            </a:r>
            <a:br>
              <a:rPr sz="24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теста, покрыта темными пятнами;  </a:t>
            </a:r>
            <a:br>
              <a:rPr sz="24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перебродившее тесто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при надавливании пальцем не </a:t>
            </a:r>
            <a:br>
              <a:rPr sz="24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выравнивается, поверхность такого теста плохая, запах</a:t>
            </a:r>
            <a:br>
              <a:rPr sz="24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неприятный, кислый; при разделке тесто рвется и плохо формуется, изделия, выпеченные из такого теста, плоские,  бесформенные, с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лохим вкусом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circl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42472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Во время разделки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брожение в тесте продолжается, 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поэтому во избежание порчи 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этот процесс необходимо 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завершить быстро.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708360" y="4206960"/>
            <a:ext cx="2376360" cy="2251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826920" y="4146480"/>
            <a:ext cx="2376720" cy="2344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227640" y="3930480"/>
            <a:ext cx="2592360" cy="252288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4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383000" cy="3286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4103640" cy="3022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932360" y="3573360"/>
            <a:ext cx="4105440" cy="303372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27756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ырье хлебопекарного производ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новное сырь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ая соста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ь хлебобулоч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делий: мука, дрожж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ь и в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ырь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это сырь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няемое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цептуре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ышения пище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ности, обеспе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циф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олептически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ко-хим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азателей 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лебобулочных изде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7280" y="3860640"/>
            <a:ext cx="2953080" cy="24386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99308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Расстойка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должается 25 – 40 мин в зависимости от:</a:t>
            </a:r>
            <a:br>
              <a:rPr sz="3200"/>
            </a:br>
            <a:r>
              <a:rPr b="0" i="1" lang="en-US" sz="3200" spc="-1" strike="noStrike">
                <a:solidFill>
                  <a:srgbClr val="330033"/>
                </a:solidFill>
                <a:latin typeface="Times New Roman"/>
              </a:rPr>
              <a:t>- активности дрожжей;</a:t>
            </a:r>
            <a:br>
              <a:rPr sz="3200"/>
            </a:br>
            <a:r>
              <a:rPr b="0" i="1" lang="en-US" sz="3200" spc="-1" strike="noStrike">
                <a:solidFill>
                  <a:srgbClr val="330033"/>
                </a:solidFill>
                <a:latin typeface="Times New Roman"/>
              </a:rPr>
              <a:t>- температуры воздуха;</a:t>
            </a:r>
            <a:br>
              <a:rPr sz="3200"/>
            </a:br>
            <a:r>
              <a:rPr b="0" i="1" lang="en-US" sz="3200" spc="-1" strike="noStrike">
                <a:solidFill>
                  <a:srgbClr val="330033"/>
                </a:solidFill>
                <a:latin typeface="Times New Roman"/>
              </a:rPr>
              <a:t>- влажности помещения;</a:t>
            </a:r>
            <a:br>
              <a:rPr sz="3200"/>
            </a:br>
            <a:r>
              <a:rPr b="0" i="1" lang="en-US" sz="3200" spc="-1" strike="noStrike">
                <a:solidFill>
                  <a:srgbClr val="330033"/>
                </a:solidFill>
                <a:latin typeface="Times New Roman"/>
              </a:rPr>
              <a:t>- величины изделий;</a:t>
            </a:r>
            <a:br>
              <a:rPr sz="3200"/>
            </a:br>
            <a:r>
              <a:rPr b="0" i="1" lang="en-US" sz="3200" spc="-1" strike="noStrike">
                <a:solidFill>
                  <a:srgbClr val="330033"/>
                </a:solidFill>
                <a:latin typeface="Times New Roman"/>
              </a:rPr>
              <a:t>- рецептуры теста;</a:t>
            </a:r>
            <a:br>
              <a:rPr sz="3200"/>
            </a:br>
            <a:r>
              <a:rPr b="0" i="1" lang="en-US" sz="3200" spc="-1" strike="noStrike">
                <a:solidFill>
                  <a:srgbClr val="330033"/>
                </a:solidFill>
                <a:latin typeface="Times New Roman"/>
              </a:rPr>
              <a:t>- «силы» муки.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Чем больше влажность в камере для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асстойки, тем меньше требуется времени для подъема изделий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867280" y="2463840"/>
          <a:ext cx="288000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463840"/>
                    <a:ext cx="288000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  <p:sndAc>
      <p:stSnd>
        <p:snd r:embed="rId3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36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Спасибо за внимание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826160" cy="374148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277920"/>
            <a:ext cx="764388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Хлебопекарные свойства муки зависят от:</a:t>
            </a:r>
            <a:br>
              <a:rPr sz="38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•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чества зерна, из которого она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получена; </a:t>
            </a:r>
            <a:br>
              <a:rPr sz="38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•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условий производства муки;</a:t>
            </a:r>
            <a:br>
              <a:rPr sz="38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•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условий хранения мук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635280" y="4584600"/>
            <a:ext cx="2376720" cy="19400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4524480"/>
            <a:ext cx="2448000" cy="2117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Созревание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пшеничной муки проводят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на мелькомбинатах в течение  1,5-2 месяцев.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При  этом  меняется: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▪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влажность  муки;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▪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цвет  её  становится  светлее  в  результате  окисления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 каротиноидов;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▪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увеличивается кислотность в основном за счет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 разложения  жира и  образования  жирных  кислот, 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 а  также  в  результате  накопления  других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 кислотореагирующих веществ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 (кислых фосфатов, продуктов 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 гидролиза  белков).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circle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8002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33"/>
                </a:solidFill>
                <a:latin typeface="Times New Roman"/>
              </a:rPr>
              <a:t>    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Следствием  возрастания  кислотности муки являются: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глубокое   изменение белков;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укрепление структурно-механических  свойств 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клейковины;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уменьшение ее растяжимости и увеличение упругости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348000" y="4014720"/>
            <a:ext cx="3384720" cy="24764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ибор для определения клейковины мук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814560" cy="3163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4283280" cy="321300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560"/>
            <a:ext cx="817236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В муке содержатся разнообразные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углеводы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1) простые сахара, или </a:t>
            </a:r>
            <a:r>
              <a:rPr b="0" i="1" lang="en-US" sz="3200" spc="-1" strike="noStrike">
                <a:solidFill>
                  <a:srgbClr val="330033"/>
                </a:solidFill>
                <a:latin typeface="Times New Roman"/>
              </a:rPr>
              <a:t>моносахариды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(глюкоза, фруктоза, галактоза);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2) </a:t>
            </a:r>
            <a:r>
              <a:rPr b="0" i="1" lang="en-US" sz="3200" spc="-1" strike="noStrike">
                <a:solidFill>
                  <a:srgbClr val="330033"/>
                </a:solidFill>
                <a:latin typeface="Times New Roman"/>
              </a:rPr>
              <a:t>дисахариды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(сахароза, мальтоза);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3) </a:t>
            </a:r>
            <a:r>
              <a:rPr b="0" i="1" lang="en-US" sz="3200" spc="-1" strike="noStrike">
                <a:solidFill>
                  <a:srgbClr val="330033"/>
                </a:solidFill>
                <a:latin typeface="Times New Roman"/>
              </a:rPr>
              <a:t>полисахариды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(крахмал, целлюлоза)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3933720"/>
            <a:ext cx="3457440" cy="256536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075520" cy="55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33"/>
                </a:solidFill>
                <a:latin typeface="Times New Roman"/>
              </a:rPr>
              <a:t>В процессе приготовления хлеба </a:t>
            </a:r>
            <a:r>
              <a:rPr b="1" lang="en-US" sz="2600" spc="-1" strike="noStrike">
                <a:solidFill>
                  <a:srgbClr val="330033"/>
                </a:solidFill>
                <a:latin typeface="Times New Roman"/>
              </a:rPr>
              <a:t>крахмал</a:t>
            </a:r>
            <a:r>
              <a:rPr b="0" lang="en-US" sz="2600" spc="-1" strike="noStrike">
                <a:solidFill>
                  <a:srgbClr val="330033"/>
                </a:solidFill>
                <a:latin typeface="Times New Roman"/>
              </a:rPr>
              <a:t> выполняет следующие функции:</a:t>
            </a:r>
            <a:br>
              <a:rPr sz="2600"/>
            </a:br>
            <a:r>
              <a:rPr b="0" lang="en-US" sz="2600" spc="-1" strike="noStrike">
                <a:solidFill>
                  <a:srgbClr val="330033"/>
                </a:solidFill>
                <a:latin typeface="Times New Roman"/>
              </a:rPr>
              <a:t>1) является источником сбраживаемых углеводов в </a:t>
            </a:r>
            <a:br>
              <a:rPr sz="2600"/>
            </a:br>
            <a:r>
              <a:rPr b="0" lang="en-US" sz="2600" spc="-1" strike="noStrike">
                <a:solidFill>
                  <a:srgbClr val="330033"/>
                </a:solidFill>
                <a:latin typeface="Times New Roman"/>
              </a:rPr>
              <a:t>   тесте;</a:t>
            </a:r>
            <a:br>
              <a:rPr sz="2600"/>
            </a:br>
            <a:r>
              <a:rPr b="0" lang="en-US" sz="2600" spc="-1" strike="noStrike">
                <a:solidFill>
                  <a:srgbClr val="330033"/>
                </a:solidFill>
                <a:latin typeface="Times New Roman"/>
              </a:rPr>
              <a:t>2) подвергаясь гидролизу под действием </a:t>
            </a:r>
            <a:br>
              <a:rPr sz="2600"/>
            </a:br>
            <a:r>
              <a:rPr b="0" lang="en-US" sz="2600" spc="-1" strike="noStrike">
                <a:solidFill>
                  <a:srgbClr val="330033"/>
                </a:solidFill>
                <a:latin typeface="Times New Roman"/>
              </a:rPr>
              <a:t>    амилолитических ферментов (амилаз);</a:t>
            </a:r>
            <a:br>
              <a:rPr sz="2600"/>
            </a:br>
            <a:r>
              <a:rPr b="0" lang="en-US" sz="2600" spc="-1" strike="noStrike">
                <a:solidFill>
                  <a:srgbClr val="330033"/>
                </a:solidFill>
                <a:latin typeface="Times New Roman"/>
              </a:rPr>
              <a:t>3) поглощает воду при замесе, участвуя в </a:t>
            </a:r>
            <a:br>
              <a:rPr sz="2600"/>
            </a:br>
            <a:r>
              <a:rPr b="0" lang="en-US" sz="2600" spc="-1" strike="noStrike">
                <a:solidFill>
                  <a:srgbClr val="330033"/>
                </a:solidFill>
                <a:latin typeface="Times New Roman"/>
              </a:rPr>
              <a:t>    формировании теста; </a:t>
            </a:r>
            <a:br>
              <a:rPr sz="2600"/>
            </a:br>
            <a:r>
              <a:rPr b="0" lang="en-US" sz="2600" spc="-1" strike="noStrike">
                <a:solidFill>
                  <a:srgbClr val="330033"/>
                </a:solidFill>
                <a:latin typeface="Times New Roman"/>
              </a:rPr>
              <a:t>4) клейстеризуется при выпечке, поглощая воду и </a:t>
            </a:r>
            <a:br>
              <a:rPr sz="2600"/>
            </a:br>
            <a:r>
              <a:rPr b="0" lang="en-US" sz="2600" spc="-1" strike="noStrike">
                <a:solidFill>
                  <a:srgbClr val="330033"/>
                </a:solidFill>
                <a:latin typeface="Times New Roman"/>
              </a:rPr>
              <a:t>    участвуя в формировании мякиша хлеба;</a:t>
            </a:r>
            <a:br>
              <a:rPr sz="2600"/>
            </a:br>
            <a:r>
              <a:rPr b="0" lang="en-US" sz="2600" spc="-1" strike="noStrike">
                <a:solidFill>
                  <a:srgbClr val="330033"/>
                </a:solidFill>
                <a:latin typeface="Times New Roman"/>
              </a:rPr>
              <a:t>5) является ответственным за </a:t>
            </a:r>
            <a:br>
              <a:rPr sz="2600"/>
            </a:br>
            <a:r>
              <a:rPr b="0" lang="en-US" sz="2600" spc="-1" strike="noStrike">
                <a:solidFill>
                  <a:srgbClr val="330033"/>
                </a:solidFill>
                <a:latin typeface="Times New Roman"/>
              </a:rPr>
              <a:t>    очерствение хлеба при </a:t>
            </a:r>
            <a:br>
              <a:rPr sz="2600"/>
            </a:br>
            <a:r>
              <a:rPr b="0" lang="en-US" sz="2600" spc="-1" strike="noStrike">
                <a:solidFill>
                  <a:srgbClr val="330033"/>
                </a:solidFill>
                <a:latin typeface="Times New Roman"/>
              </a:rPr>
              <a:t>    его хранении.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713320" cy="194652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5:40:22Z</dcterms:created>
  <dc:creator>ира</dc:creator>
  <dc:description/>
  <dc:language>en-US</dc:language>
  <cp:lastModifiedBy>ира</cp:lastModifiedBy>
  <dcterms:modified xsi:type="dcterms:W3CDTF">2009-10-21T18:53:28Z</dcterms:modified>
  <cp:revision>39</cp:revision>
  <dc:subject/>
  <dc:title>Учебно-познавательный проект на тему: «Физико-химические процессы, происходящие  при изготовлении теста».  Работу выполнил студент группы №29 по специальности «Технология продукции ОП» Коваленко Эдуард</dc:title>
</cp:coreProperties>
</file>